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008-82B2-4A73-ABC5-962E1E4E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717-B124-4342-ADC1-7E0FA096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FE9-4332-4201-8D12-AE678F85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673-41DC-4F25-A9FA-BED052E2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0CAE-944A-4550-9277-35577EDC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B479-FC93-4175-BFA8-FE9CB703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FF23-AF4A-4A81-9BA2-FF8289AA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8FC5-818C-43B7-B78B-C84CE6D9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716A-C55F-49D5-B888-E49CE0F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FFCB-14B7-4965-9976-F6641B83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E70A-19B8-4D55-B510-7B97DF9B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4AC-5D34-448D-A1D8-7A176141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C0D5-87C8-4D49-9D36-C290F91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8FF0-8589-4291-A2EC-6CE66089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F2E2-8568-477A-B34E-B438BAE1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6FF6-E85F-4E8C-8389-F3D9E115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F833-89A0-4983-A060-4DA31B67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2A4-97FC-4E19-BD00-C3899CF5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4C5-4B0A-4E47-9729-8249FAF2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E9F-3159-4CC9-8B59-90AE3085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5C5-9118-44DF-99D2-D2771C8D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1A5-2CD5-4E61-9977-98B77851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F49-3602-43BD-90BE-18CB8F5A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BD8-BDFA-417C-BC48-7064CB1F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EFF5-37AB-404B-911F-B7A1E0CAEE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EA82-A306-4AA5-8439-BB054252A1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BIUS ILS Task Forc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o MOBIUS Council, February 29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 Members: Eileen Condon (Eden-Webster), Judy Fox, Chair (Washington Univ.), Christopher Gould (MCO), Sheila Ouellette (St. Louis CC), Denise Pakala (Covenant), Ann Riley (UMC), Stephen Wynn (Truman State), Beth Fisher, Ex-of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US ILS Task For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ed Nov. 9, 2007 with a January 15, 2008 reporting dead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view and develop information, possibly including an RFI, on ILS enhanced search software, review vendors’ offerings and recommend a proposed solution to the MOBIUS Executive Committee and Counci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tion of desired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rence calls for 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interviews with customers/insta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 demos at 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from post on MOBIUS-USERS-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from libraries already investigating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and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features and comparison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not find a system that met our vision of “one stop discovery and deliver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ibrary and cluster environment adds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ame close: AquaBrowser, Encore and Pr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investigatio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P needed if funding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hip would need to be invited to online and live demos of software under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less funding discu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ted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q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rm recommendations possible 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force members are willing to continue to gathe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US members could be surveyed for prioritized list of ILS enhancements des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O funding possibility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all members to offer input, review features and comparis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9:28:38Z</dcterms:created>
  <dc:creator>Barney Rubble</dc:creator>
  <dc:description/>
  <dc:language>en-US</dc:language>
  <cp:lastModifiedBy>Barney Rubble</cp:lastModifiedBy>
  <dcterms:modified xsi:type="dcterms:W3CDTF">2008-02-28T20:50:15Z</dcterms:modified>
  <cp:revision>27</cp:revision>
  <dc:subject/>
  <dc:title>MOBIUS ILS Task Force </dc:title>
</cp:coreProperties>
</file>